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D97-2DC9-4C6D-A513-F10C88FD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CEF-F311-40F8-BB42-81631ED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954-9F0E-49A4-80CB-7CBCEE38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033-3B8B-4B79-98F5-1ECAC983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5400-E8C2-4EA9-A210-0BE53B12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A278-C1D3-468D-9051-03D0E9B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540-26E4-4369-8E02-9D686578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D3B-5F61-4453-81CD-9D82DA20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EDD1-7189-4E2B-81D4-D215501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1366-ED68-46B1-80C3-A1E4E768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758C-4ECC-4F7B-AA5A-7269A32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F51-2BCC-427E-8EA6-39C7577A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A2E-5E87-424D-89FB-7ABB7D6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AA80-D699-4030-8FFB-C09AB18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FC7-73DF-43B7-8110-ACD66894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973-2BA0-4A3B-92B0-2ED811CF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09D1-BA46-4C85-AFA7-14CDFFA2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287-8412-412D-9C47-BC97E12A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CE0-9B7B-4535-93C9-1397D73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168-4A0C-4E77-8E42-EABBBCB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60D-3C58-49D9-B14B-59EA72E4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E7E-3F09-4CD8-94CA-E44349CA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004-AB56-4A67-B631-F4E825E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F58-3CD9-4AAE-A741-37285EA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492-7223-40BF-AEF6-63953F91566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813-E805-4D4A-98C1-76F21475E7AF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ktoprating.com/wallpapers/green-guitar-wallpaper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 - evaluare ini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ţial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f. Berian Sergi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ceul Teologic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Baptist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„Emanuel” Ora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1828800"/>
            <a:ext cx="780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Cum a influenţat studiul undelor evoluţia umanităţi</a:t>
            </a:r>
            <a:r>
              <a:rPr b="1" lang="en-US" sz="2800" spc="-1" strike="noStrike">
                <a:solidFill>
                  <a:srgbClr val="196666"/>
                </a:solidFill>
                <a:latin typeface="Times New Roman"/>
              </a:rPr>
              <a:t>i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3581280"/>
            <a:ext cx="7808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ne afectează cutremurele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În ce măsură există în jurul nostru fenomene ondulatorii şi de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âte feluri sunt acestea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se produc sunetele şi în ce mod le auzim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are e efectul ultrasunetelor şi infrasunetelor asupra noastră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6364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 În timpul propagării unei unde mecanice are loc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atât transport de energie cât şi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transport de energie, fără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transport de substanţă, fără transport de energi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Daţi trei exemple de fenomene ondulatorii din natură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onsideraţii general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12840" y="4424400"/>
            <a:ext cx="2492280" cy="193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048120" y="4421160"/>
            <a:ext cx="2598480" cy="194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19920" y="4363920"/>
            <a:ext cx="21970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ipuri de unde. Lungimea de und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9880" y="2720880"/>
            <a:ext cx="3429000" cy="144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018120" y="249876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85800" y="1763640"/>
            <a:ext cx="82026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După orientarea oscilaţiilor în raport cu direcţia de propagare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xistă două tipuri de unde. Care sunt aceste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Lungimea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distanţa până la care unda ajunge la un moment dat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distanţa parcursă de undă într-un timp egal cu perio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ie a surs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distanţa parcursă de undă în unitatea de timp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1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176364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Formula corectă a lungimii de undă, în funcţie de frecvenţa sursei şi viteza de propagare a undei,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036800" y="2598840"/>
                <a:ext cx="836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2932200" y="2585880"/>
                <a:ext cx="809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4691160" y="2751120"/>
                <a:ext cx="114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3"/>
          <p:cNvSpPr/>
          <p:nvPr/>
        </p:nvSpPr>
        <p:spPr>
          <a:xfrm>
            <a:off x="609480" y="4800600"/>
            <a:ext cx="8202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"/>
          <a:stretch/>
        </p:blipFill>
        <p:spPr>
          <a:xfrm>
            <a:off x="5931000" y="2658960"/>
            <a:ext cx="2781360" cy="220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34960" y="468936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Viteza de propagare a unei unde longitudinale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9"/>
              <p:cNvSpPr txBox="1"/>
              <p:nvPr/>
            </p:nvSpPr>
            <p:spPr>
              <a:xfrm>
                <a:off x="6564240" y="5276880"/>
                <a:ext cx="947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925560" y="5278320"/>
                <a:ext cx="9730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649680" y="5472000"/>
                <a:ext cx="121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2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7. O undă longitudinală cu frecvenţa de 500 Hz se propagă într-un mediu elastic al cărui modul de elasticitate este E = 4,23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Densitatea mediului are valoarea de 2700 kg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Valoarea lungimii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4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6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8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. 10 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3520" y="4114800"/>
            <a:ext cx="8202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. Viteza de propagare a unei unde transversale într-o coardă elastică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6311880" y="4915080"/>
                <a:ext cx="9460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833400" y="4892760"/>
                <a:ext cx="954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3622680" y="5094360"/>
                <a:ext cx="1257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Difracţia undelor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9. Difracţia undelor se explică cu ajutorul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reflexiei;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refracţi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principiului Huygens-Fresnel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623880" y="3408480"/>
            <a:ext cx="217656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2755800" y="3403440"/>
            <a:ext cx="2192400" cy="27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548240" y="3484440"/>
            <a:ext cx="3990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Reflexia şi refracţia und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. Ce legătură există între reflexia undelor sonore şi ecou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1. Influenţează refracţia ultrasunetelor calitatea imaginii ecografic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2. Cum ajută reflexia undelor la orientarea liliacului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73860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Mecanică şi acustică, Ed. Didactică şi Pedagogică, Bucureşti, 1982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Probleme de fizică pentru clasele IX-X, Ed. Didactică şi Pedagogică, Bucureşti, 1983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onescu-Andrei, R., Onea, C., Toma, I., Manual de fizică pentru clasa a XI-a, Ed. Art, Bucureşti, 2008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desktoprating.com/wallpapers/green-guitar-wallpaper.ht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medishop.ro/product--Ecograf-doppler-color-portabil-Mindray-M5--192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10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ientia.ro/stiinta-la-minut/53-scintilatii-stiintifice/140-cum-se-formeaza-curcubeul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1-27T17:55:47Z</dcterms:modified>
  <cp:revision>400</cp:revision>
  <dc:subject/>
  <dc:title>Evaluare_initiala</dc:title>
</cp:coreProperties>
</file>